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1E7-4E60-41A6-86F4-A760DF5D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E19-C867-4531-992F-C8D07D42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FE63-B65B-45DC-B190-ED8298A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8CFD0-3CFB-4F1F-88D9-B57B4B93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F972-E96A-47BE-9B46-79C6409D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370ED-7BEB-48F9-BEDE-22F0542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BAFD-2224-4F55-8ED5-5A2F824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58861-E811-4813-B18F-EAF1F270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CCED7-3A28-4F76-9ADA-B88DC527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17329-307A-4652-99D5-5F04F2D6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48752-3406-464E-8B0A-D96514D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31A8A-5ABC-4903-BD62-D0A44AB2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94A-B57F-4363-BE6B-3B90E15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4A5D5-CC1A-469D-A1C4-DB83476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6010D-38F3-4B71-9995-12DC12A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18D63-7A93-4FED-B177-2F0A325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CE662-2545-4C5F-B154-ADE336A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5FFE2-A81E-4B7E-961B-F346D35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7871E-10AC-4ABB-A272-4E7FB02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3AA3-4AFD-4077-86AF-1B80842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45AFB-D0F1-4100-A753-0793FC1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E8E65-F580-41C3-B435-6D3AFC3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1BD54-B1B3-4CC7-A12C-F46B56C3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DC9-0808-4888-8E18-93490DAB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30E3B-1876-46DE-AA4F-42D255A0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95390-848A-471C-B91A-F303A32E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C8367-54F6-4DB3-A69A-B9694412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7165-07C7-4863-89C5-1E99935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C169-FECC-4955-AE32-F1196FF9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C3ACE-A557-4878-9308-C5FD9A95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88C5B-FE20-49D5-902D-5EB48CA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F3C4A-5F94-4147-86F3-6CC03AF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ABEC8-77B9-49C5-B7DF-E66B70F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9B5ED-15F1-4CD3-A688-ADD9291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30B4-E3C1-45A9-AB7B-65DF541A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9E45B-9F17-4842-950B-E2FC4000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CBBDC-7E1C-4BFA-BC5A-9081C829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A831B-4E5F-4E8B-BEDC-72C89338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F0EF8-7B05-4864-A484-E5F37D5C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65BB7-B386-47BE-A8BB-141036C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A3060-BA8C-4838-B2F9-928CCBA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4C256-3C18-4D7F-938F-E585874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426A3-1B61-4060-862F-D0F83B0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533A-AD29-41E7-A0C2-BFF1D0DB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4D8A8-6F45-4109-8D89-A0D8652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26E-18D4-474E-85BC-2B7687C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95FCF-D8B8-4E5F-9FBE-0B139C0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65239-0552-476F-84FA-7B0755B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7F9DB-7CAC-40C6-B5A3-2F6F2AD0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01FBE-DF72-4B19-8AB5-05BE732E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F5049-32D7-4622-8B00-479A08BF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2634-5DA4-4E2D-93A7-7B628837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D9A55-01A1-493B-9C8E-2587A3A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A9AB7-4F17-4061-A1ED-E6D1801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D4449-637F-46B0-B93E-5B19A6F9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28A1A-8CA1-4F9F-97E8-FBB287C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4E4E-98F3-43E9-AAAE-E89C779E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83EDA-B981-4C18-ADB7-6D2708B6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5AB01-05DE-4EC3-8397-E707559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142F0-C289-4022-99E5-879174C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85417-78A7-4162-858C-747BF39E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5E7D5-6E1B-4CDC-B298-7C41AF3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BD81E-2FF3-43DE-A0B1-C20B2B31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E4E5E-00E8-4592-8C3B-27C0833B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D9A61-700A-4074-AD45-F53FAEF3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20639-0BC3-40D8-B17D-E4735FCA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6067E-5EFD-419C-AD81-FDB71423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DC33-B7B6-4958-A3B7-D514F9B1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2295A-527F-4DC1-98F7-64264AC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CE3D2-95D6-4C2B-8A20-3763174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CC849-8C90-4976-94FA-AA84751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89DDF-6A8E-46AA-92F3-BAAD19FC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7B89F-B319-4BE6-974E-621AEF5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422E0-28E6-45FE-8ACD-D744007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C6657-F3A2-4A02-A9B7-F22BFC4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CC20A-3609-4900-B526-ABE8E2D6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BEF97-C475-4D53-9A99-7590B8DB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6774E-00CA-4A0C-82C6-171A5522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FCF-62DD-4014-A430-E61689B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1DD2D-C8A5-4561-BFF4-6B7F3700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8C8CF-2886-4B81-A4E2-D2C3543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3A339-F72C-4A6D-8A4A-5346B6BA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1CE4A-4FED-4561-BD7A-B10D8BE6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544BE-E448-4993-A571-ECB6BCCC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BAE79-35A6-44CD-BB21-6CBE06C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96CF6-59AC-459C-ACFE-F47399F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4B7A5-789A-471D-9576-82222AD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70128-AAE1-4AD7-9D09-0C253E29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E32C3-A186-4984-A4E3-6E456DC8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1DAD-071C-45C7-9C3A-163DD2A4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DDD0A-356A-4F99-B748-55BDA497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F6E14-195A-4CE8-844C-56D33B83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951D9-7326-453E-9EDD-A4B77D25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EFD6F-702B-46B7-BD0F-9636E0D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6C702-49EA-4997-82A3-CCE8AA4D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06361-0D9D-4260-B229-28EA02F7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70B99-0AE1-4186-8B27-EC9209BD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FF059-111F-4D0B-B58F-38A80F1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D931B-891E-4D58-9D07-732595B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68139-22F1-4265-88F7-14E3BEC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1064-BD5B-48CC-B1A8-08B4891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88EBC-4C5A-4490-8CD1-E30E312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F0F8B-9A48-449E-A885-1B86A815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BC0DA-64A2-4311-BFC2-3F28BD79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1E36F-14BE-462D-B702-F0EAA682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39FFF-DF43-4EB5-943C-67B25F6E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104E2-77D7-4FDE-BD61-05835B6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8A490-AC98-40F9-B228-38ABE70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9FE98-CEA8-4B43-9A18-41DC9E5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CE7F1-DA32-4359-93A1-DD9429BD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D7E67-9569-4970-AD18-741976A5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8AC-541F-4530-8627-858D796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272D-18FD-469E-9DDC-9560FD5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10951-6973-4DAA-B1D0-24BB530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F5F6B-2081-4637-81F4-78E7D03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09679-9317-400D-B09B-5DAEE41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58281-B891-45D9-9B2E-D4CD1802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B7A63-EC91-4BAD-8A48-14E20458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9E4A7-7DFB-40D6-B763-EBA49E75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7B4BB-9419-46A2-B6AC-0A52911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35186-3D96-4702-B5C2-B841DB10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DCF39-96C7-4C6E-AAE7-89338D02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A814C-92E7-461C-A665-88F1722A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6511-3792-4BC4-9172-D4FFF0E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BCABF-88FA-4D17-BC17-C80588DF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3CC1C-38A4-4BDB-AF4E-F2E59DC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F2877-D05D-4282-BD23-B773688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86404-7F83-4282-AE71-DC17738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04E9C-D4C5-4495-A4ED-815B9DA3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AA3A3-3FB5-450E-99C3-1C8BC630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7382E-7960-4410-A5E7-AA5338B5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E7B14-964A-4E53-BE22-C7C97CF3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3CC660-858A-415A-B207-69940BB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1D2B1-391F-42E6-A151-ACCB1023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088-9D55-4BE4-AD36-7CE6D70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3C66A-E336-46EE-9192-E110D2E8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02F9B-D637-4676-97E2-956DDAB4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41BC2-08D5-4A4B-9460-938FAFB2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85522-818B-4574-AD17-E500F94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7E279-4BC3-42DF-AEF8-DBF4D1A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517B5-3998-4F31-B1D0-C277674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65761-3C1B-47A6-9221-CE2266B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991BD-633F-4CE2-BF10-1B23E76F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07DE77-69F8-4D40-A21E-DD1ED9B9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5ED91-0798-4770-87A4-42281FE5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B6A7-AE0D-4094-9AC7-480C169A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C4499-821E-4A1D-BEDD-FBFA8BB3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474E2-0899-4360-9FED-B3D6407B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E44125-167A-46B7-AF64-06551E6D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8DDF4-2498-4D7F-9729-14A22DED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ACF16-CF9E-475C-8FA7-7FB1F86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2D976-F271-49C3-A8A0-32F3C0AB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9FFC8-8B3F-401D-8C18-7987EB20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22946-4924-4DC0-97B1-A062FD4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0A238-C9B0-4B01-A7AF-B9CE7B15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10057-2BCC-4B3A-AD89-D2E15714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D55E-FC5D-49E6-8E3D-458F89B1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0D7AD-9702-41F6-9244-A102D126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D61B0-CA58-4B59-85EF-E813E6D4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EA0CE2-ADD4-4117-8492-F2BC76C5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0B027-B0BA-4F07-B80D-1F71CBBE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02DEF-ACA1-4D80-81F1-1CC6418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61158-3B00-483D-A0F9-187209F3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60D7A-37DE-47D3-A72E-561A3C0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782FB-5434-4AA9-B090-695985A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5303D-DA31-4548-AFC1-49EE7B5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42480-67B6-46E8-870B-DC20CE1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3B72C-77EE-4DCF-BCDD-41B8ECA7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DB34E-2617-41C0-95E7-4CB03BF7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9EB57-1C8E-4493-A045-DA44BEEC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FEE-676F-4AB3-B1F3-AD05D7D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FA51-E3B4-4E1B-8099-F8E22710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8AC5-797F-4DCD-92AD-80F31B7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1C22-3843-4D62-88A6-126EACC1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8A9-EDE2-4653-8434-DCCBFE0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ECCA-3D38-4C87-9056-8EB5A2BC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5DE9-62BE-42A8-AF48-F84130BD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A2CB-BD67-4779-A6BC-2CA38C73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07AB-0FD6-4A50-88BD-E07CF94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3CFE-1114-4E60-AF66-B7FB677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0741-4AA0-4FED-8797-85D8DFD0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F76D-1BC9-4CD3-8177-AB1874A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98E8-30B7-458A-9CAA-64CD602E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3608-991B-4DCC-B808-169927CB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8994-843E-4B81-95E9-E6CA8BC1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C8D-CD44-4BB7-BD16-5512733B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05B2-D0E2-4CCB-B0D5-99C0BBA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E96C-E432-4C8D-A593-458968B4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0EAF-7220-430D-87A6-A791B2E3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3748-4399-4ED2-BB2B-BF64F808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8589-2BFF-4702-85A0-2E24ABA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B120-5FAC-442F-9B73-F42C3F7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3F54-08A9-417D-8263-07563A0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FE2C-2E16-414D-A6CA-C58FD7E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2F79-3ED6-4D2F-8446-7181513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A676-0A02-4172-B6B6-A35DD92B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BE2-54DF-4973-BB22-B7D27AA5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14BF-75AC-4962-8CB5-5A178465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64F31-EE2E-4B4B-8EE7-69686CA2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BCAB-4076-4663-98E0-19E3F54E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62AB-75A6-4509-A2CB-ED87E94D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BB34-94CA-480F-9C24-244B7648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8344-C48F-457A-BF3A-9BCA6E7C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B1CB-E839-4476-A9D7-D53DBC04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5D8B-E577-4009-A3EE-7852630A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CBFC-BD73-4753-9EF8-359EF655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3803-46C6-48A4-A410-38F67B3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B85-F3E6-4760-80CC-BDAEF60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62E7-FA42-44C4-864D-56F16F0F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C73A-B2D3-486D-A138-2063F238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4349F-DE21-40A3-929B-0797B3C6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9CA0F-3385-4921-92C9-768C809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5FB6-B180-481F-AFB6-82E8AE17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1B61-7F43-40EB-8872-909F37B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DCDB-F6C8-4483-B6AC-FBA535AD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F5DD-554C-45D3-BB1E-F2659FCB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3702-5170-45D4-AFCA-EB58935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6EC1-44C8-49C2-A58F-C2B6471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8F1-19BA-4FE4-BF7A-914F3126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7179-4066-4817-85B0-A9A0385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11B0-F70E-4AE1-8272-2FCE936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99F4-1CB2-4D3F-BF0E-C4F1301E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1F2CF-8A88-4525-8286-845E9E12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3624-4433-4326-AE30-2ED114B7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9ECA4-1AE2-46E5-B42D-14BFAE5B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0DA3-7A5E-4F79-9B57-39A2936D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C3F0D-00DB-4A3F-89B9-F5ADAC5F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31B5-920F-4516-978D-8CAC3402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5E63-ED55-4948-A504-703472BB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081-0D30-4852-9498-16DEEF3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9F7FF-B8AB-4754-A7F4-14A5889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5A94C-B028-4C70-957E-0B44DF1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EB19A-ED7D-4755-9DA6-4EB754E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6542-D0EC-4F3E-982C-BAA5D2C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5935-5CCC-4AD6-BDE8-2DCCDAE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5D859-169C-4D2B-BD57-85EAD217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E54F-EE21-433B-BC2A-F2F0D7C5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14E81-0C17-4DA8-8256-9C118D8E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13FB-1240-4903-9085-42238FF3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51F07-9A88-4970-BBF5-B413FE0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4C7-5B55-41D1-9B4F-1EE5DFF535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8FE-15FA-4884-95A3-5A4FB08A0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53F-260C-4443-861C-C053E7B35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CED-7D38-43C3-9894-A3EE191E6F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C8C-A6A8-47D4-9E61-47B3FA3C69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E1CF-FEB3-4DDF-ADA9-2B038EF56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A944-E581-4210-9931-789FFEA2D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1CFD-12B6-4F45-B39D-FB4019DDE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12A7-3D91-4F11-BCAB-3A0FEC763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BD55-FC81-45A9-A7EF-D0E03ED0C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C50-C2FB-420B-AF7B-B491E6564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AE7D-721D-40F5-9965-70D81B5F2E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6B8-B86A-43DD-A586-9D721D742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E09-3EAC-471E-9A0C-0528280644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353A-1AF6-433F-8A8A-1414081F45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3AC-E446-4AEC-9252-296916E07A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D473-9F78-459C-AAA7-46628A8A9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063-C2BA-4D1C-B6D3-4D469E254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CD64-E0E8-459C-8E85-5BE8533B2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652F-29AE-4436-AB88-73540EBFB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1B6-0441-4C7C-8F8C-E8354D63E8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F0F2-53E9-40A3-B6F4-3093B7C464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101C-CD9B-47A3-901A-FF6974BCA8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A998-2494-4AA5-84CF-B976CF913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65E-4599-403F-8AC1-412CF6B21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8446-FAD3-43CA-A1BB-2864C945A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A5B4-87F0-4069-9DDF-6C4008D70B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D968-0E26-4C4F-BB0A-137E0B19A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F92-6240-45A0-895D-ED4B6FE04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2804-35A3-4DB4-88AE-7363311A7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ACA3-EE45-4750-879A-B3B9FA70AA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CD4-9280-40D7-AA3E-F52B5EF175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AF7-02D8-4146-8D3E-2BD3C5164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B05C-D2EA-4249-98AF-C24957F4F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8472-9682-4119-98F2-C9B36CF29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833C-F4D2-4A6B-923A-E2A767867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CFF7-1EC3-4549-8658-DA938C2E7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0E2F-2BC2-4672-B5E5-C6730BB00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19C2-A208-46E8-9E50-8B0C8D7C0E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0360" y="2543040"/>
            <a:ext cx="89632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3313" descr=""/>
          <p:cNvPicPr/>
          <p:nvPr/>
        </p:nvPicPr>
        <p:blipFill>
          <a:blip r:embed="rId1"/>
          <a:stretch/>
        </p:blipFill>
        <p:spPr>
          <a:xfrm>
            <a:off x="809640" y="1947960"/>
            <a:ext cx="7524720" cy="29620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1042920" y="3544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92" name="组合 14339"/>
          <p:cNvGrpSpPr/>
          <p:nvPr/>
        </p:nvGrpSpPr>
        <p:grpSpPr>
          <a:xfrm>
            <a:off x="757080" y="731880"/>
            <a:ext cx="7629840" cy="5995800"/>
            <a:chOff x="757080" y="731880"/>
            <a:chExt cx="7629840" cy="5995800"/>
          </a:xfrm>
        </p:grpSpPr>
        <p:pic>
          <p:nvPicPr>
            <p:cNvPr id="1093" name="图片 14337" descr=""/>
            <p:cNvPicPr/>
            <p:nvPr/>
          </p:nvPicPr>
          <p:blipFill>
            <a:blip r:embed="rId1"/>
            <a:stretch/>
          </p:blipFill>
          <p:spPr>
            <a:xfrm>
              <a:off x="757080" y="731880"/>
              <a:ext cx="7629840" cy="30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图片 14338" descr=""/>
            <p:cNvPicPr/>
            <p:nvPr/>
          </p:nvPicPr>
          <p:blipFill>
            <a:blip r:embed="rId2"/>
            <a:stretch/>
          </p:blipFill>
          <p:spPr>
            <a:xfrm>
              <a:off x="1403280" y="3917880"/>
              <a:ext cx="6229440" cy="28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1332000" y="184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5"/>
          <a:stretch/>
        </p:blipFill>
        <p:spPr>
          <a:xfrm>
            <a:off x="133200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6"/>
          <a:stretch/>
        </p:blipFill>
        <p:spPr>
          <a:xfrm>
            <a:off x="133200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7"/>
          <a:stretch/>
        </p:blipFill>
        <p:spPr>
          <a:xfrm>
            <a:off x="1332000" y="3457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图片 15361" descr=""/>
          <p:cNvPicPr/>
          <p:nvPr/>
        </p:nvPicPr>
        <p:blipFill>
          <a:blip r:embed="rId1"/>
          <a:stretch/>
        </p:blipFill>
        <p:spPr>
          <a:xfrm>
            <a:off x="826920" y="808200"/>
            <a:ext cx="7485120" cy="59068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4535280" cy="320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3"/>
          <a:stretch/>
        </p:blipFill>
        <p:spPr>
          <a:xfrm>
            <a:off x="1547640" y="3011400"/>
            <a:ext cx="4535640" cy="320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4"/>
          <a:stretch/>
        </p:blipFill>
        <p:spPr>
          <a:xfrm>
            <a:off x="1476360" y="4133880"/>
            <a:ext cx="4535640" cy="3207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5"/>
          <a:stretch/>
        </p:blipFill>
        <p:spPr>
          <a:xfrm>
            <a:off x="1692360" y="5243400"/>
            <a:ext cx="453528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6"/>
          <a:stretch/>
        </p:blipFill>
        <p:spPr>
          <a:xfrm>
            <a:off x="1547640" y="6351480"/>
            <a:ext cx="4535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110" name="组合 16387"/>
          <p:cNvGrpSpPr/>
          <p:nvPr/>
        </p:nvGrpSpPr>
        <p:grpSpPr>
          <a:xfrm>
            <a:off x="109440" y="933480"/>
            <a:ext cx="8925120" cy="5411880"/>
            <a:chOff x="109440" y="933480"/>
            <a:chExt cx="8925120" cy="5411880"/>
          </a:xfrm>
        </p:grpSpPr>
        <p:pic>
          <p:nvPicPr>
            <p:cNvPr id="1111" name="图片 16385" descr=""/>
            <p:cNvPicPr/>
            <p:nvPr/>
          </p:nvPicPr>
          <p:blipFill>
            <a:blip r:embed="rId1"/>
            <a:stretch/>
          </p:blipFill>
          <p:spPr>
            <a:xfrm>
              <a:off x="109440" y="933480"/>
              <a:ext cx="8925120" cy="49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图片 16386" descr=""/>
            <p:cNvPicPr/>
            <p:nvPr/>
          </p:nvPicPr>
          <p:blipFill>
            <a:blip r:embed="rId2"/>
            <a:stretch/>
          </p:blipFill>
          <p:spPr>
            <a:xfrm>
              <a:off x="380880" y="6021360"/>
              <a:ext cx="5086440" cy="3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611280" y="4595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5"/>
          <a:stretch/>
        </p:blipFill>
        <p:spPr>
          <a:xfrm>
            <a:off x="611280" y="508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6"/>
          <a:stretch/>
        </p:blipFill>
        <p:spPr>
          <a:xfrm>
            <a:off x="611280" y="5589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7"/>
          <a:stretch/>
        </p:blipFill>
        <p:spPr>
          <a:xfrm>
            <a:off x="611280" y="6021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1"/>
          <p:cNvGrpSpPr/>
          <p:nvPr/>
        </p:nvGrpSpPr>
        <p:grpSpPr>
          <a:xfrm>
            <a:off x="409680" y="1125360"/>
            <a:ext cx="8410320" cy="4465800"/>
            <a:chOff x="409680" y="1125360"/>
            <a:chExt cx="8410320" cy="446580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409680" y="1266840"/>
              <a:ext cx="8324640" cy="43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" descr=""/>
            <p:cNvPicPr/>
            <p:nvPr/>
          </p:nvPicPr>
          <p:blipFill>
            <a:blip r:embed="rId2"/>
            <a:stretch/>
          </p:blipFill>
          <p:spPr>
            <a:xfrm>
              <a:off x="8244000" y="1125360"/>
              <a:ext cx="5760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7164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97164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97164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971640" y="465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971640" y="52293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77760" y="2368440"/>
            <a:ext cx="8958240" cy="2237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637236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8129520" y="42642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4529160" y="4221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2" name="组合 20483"/>
          <p:cNvGrpSpPr/>
          <p:nvPr/>
        </p:nvGrpSpPr>
        <p:grpSpPr>
          <a:xfrm>
            <a:off x="81000" y="1725480"/>
            <a:ext cx="8955000" cy="3143520"/>
            <a:chOff x="81000" y="1725480"/>
            <a:chExt cx="8955000" cy="3143520"/>
          </a:xfrm>
        </p:grpSpPr>
        <p:pic>
          <p:nvPicPr>
            <p:cNvPr id="1043" name="图片 20481" descr=""/>
            <p:cNvPicPr/>
            <p:nvPr/>
          </p:nvPicPr>
          <p:blipFill>
            <a:blip r:embed="rId1"/>
            <a:stretch/>
          </p:blipFill>
          <p:spPr>
            <a:xfrm>
              <a:off x="128520" y="1725480"/>
              <a:ext cx="888696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图片 20482" descr=""/>
            <p:cNvPicPr/>
            <p:nvPr/>
          </p:nvPicPr>
          <p:blipFill>
            <a:blip r:embed="rId2"/>
            <a:stretch/>
          </p:blipFill>
          <p:spPr>
            <a:xfrm>
              <a:off x="81000" y="3892680"/>
              <a:ext cx="895500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755640" y="2809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75564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25092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324000" y="44514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8193" descr=""/>
          <p:cNvPicPr/>
          <p:nvPr/>
        </p:nvPicPr>
        <p:blipFill>
          <a:blip r:embed="rId1"/>
          <a:stretch/>
        </p:blipFill>
        <p:spPr>
          <a:xfrm>
            <a:off x="371520" y="1400040"/>
            <a:ext cx="8400960" cy="4057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1042920" y="445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6"/>
          <a:stretch/>
        </p:blipFill>
        <p:spPr>
          <a:xfrm>
            <a:off x="104292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9217" descr=""/>
          <p:cNvPicPr/>
          <p:nvPr/>
        </p:nvPicPr>
        <p:blipFill>
          <a:blip r:embed="rId1"/>
          <a:stretch/>
        </p:blipFill>
        <p:spPr>
          <a:xfrm>
            <a:off x="123840" y="1338120"/>
            <a:ext cx="8896320" cy="4181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755640" y="1873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82692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826920" y="40194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0241" descr=""/>
          <p:cNvPicPr/>
          <p:nvPr/>
        </p:nvPicPr>
        <p:blipFill>
          <a:blip r:embed="rId1"/>
          <a:stretch/>
        </p:blipFill>
        <p:spPr>
          <a:xfrm>
            <a:off x="628560" y="2147760"/>
            <a:ext cx="7886880" cy="2562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1" name="组合 12292"/>
          <p:cNvGrpSpPr/>
          <p:nvPr/>
        </p:nvGrpSpPr>
        <p:grpSpPr>
          <a:xfrm>
            <a:off x="158760" y="1052640"/>
            <a:ext cx="8907480" cy="5040360"/>
            <a:chOff x="158760" y="1052640"/>
            <a:chExt cx="8907480" cy="5040360"/>
          </a:xfrm>
        </p:grpSpPr>
        <p:pic>
          <p:nvPicPr>
            <p:cNvPr id="1072" name="图片 12289" descr=""/>
            <p:cNvPicPr/>
            <p:nvPr/>
          </p:nvPicPr>
          <p:blipFill>
            <a:blip r:embed="rId1"/>
            <a:stretch/>
          </p:blipFill>
          <p:spPr>
            <a:xfrm>
              <a:off x="179280" y="1052640"/>
              <a:ext cx="75819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图片 12291" descr=""/>
            <p:cNvPicPr/>
            <p:nvPr/>
          </p:nvPicPr>
          <p:blipFill>
            <a:blip r:embed="rId2"/>
            <a:stretch/>
          </p:blipFill>
          <p:spPr>
            <a:xfrm>
              <a:off x="158760" y="2735280"/>
              <a:ext cx="8907480" cy="335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332000" y="2722680"/>
            <a:ext cx="936360" cy="320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258920" y="3227400"/>
            <a:ext cx="792000" cy="320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1332000" y="371628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2814480" y="4221000"/>
            <a:ext cx="677880" cy="320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7"/>
          <a:stretch/>
        </p:blipFill>
        <p:spPr>
          <a:xfrm>
            <a:off x="2570040" y="5214960"/>
            <a:ext cx="6778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1265" descr=""/>
          <p:cNvPicPr/>
          <p:nvPr/>
        </p:nvPicPr>
        <p:blipFill>
          <a:blip r:embed="rId1"/>
          <a:stretch/>
        </p:blipFill>
        <p:spPr>
          <a:xfrm>
            <a:off x="109440" y="1190520"/>
            <a:ext cx="8925120" cy="44769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8:5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